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56D4A-FEE3-4C82-9510-58ED6DD82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6825C-43F4-4D9F-8D19-0BBB9C5F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31A6E-E9D8-41CB-9B3A-FD21C87BE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4EEEF-A889-418E-8862-2F8C30F34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78B3-1153-4AE3-818F-6F0858771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FA79-0F75-4FF6-942E-082E4CB4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755E-80E3-438C-BFF3-2C1B4AF5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9FB8-4C13-40B1-AF7D-C3A3CB19C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16E0-8D90-4C37-9FF3-51B82D9E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6EAB-6FBE-4C6A-8695-7359FEAA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6C5D-5FCB-49BC-8FAE-D058DB11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9BEA-D8D3-4E5B-93A0-F4864F813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42047FBE-B17C-4590-8D35-FAC23BDE1A8F}" type="datetime">
              <a:rPr b="0" lang="en-US" sz="5500" spc="-1" strike="noStrike">
                <a:solidFill>
                  <a:srgbClr val="898989"/>
                </a:solidFill>
                <a:latin typeface="Calibri"/>
              </a:rPr>
              <a:t>07/29/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5AA6E1E2-C564-4765-897E-21A87D129D5D}"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